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33B48-B894-4BEC-8174-736A764FB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F223C-8031-4F53-9EB7-8C28B5A4A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03BC6-2C88-4511-B980-E94611B6BA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C16B2-1712-4F39-BDB7-DF21EAD690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873FB-A87C-4713-88FD-84527A050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BDC4E-4621-4D65-9A7C-490A87F9C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4095-FC6D-4926-8924-59B5A0DDC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B4339-DD27-4742-8435-14CF7CDA4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5BBB1-A874-4BE9-B4AB-A323D9CBC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043CB-C675-4E2B-8249-5E585785D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8C7D2-5CEC-4FBD-83F7-4D546D7CF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2F784-876B-41A5-8EBB-748F27097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AAC2A-BF86-4595-8BC6-EB6C316117C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6"/>
          <p:cNvSpPr/>
          <p:nvPr/>
        </p:nvSpPr>
        <p:spPr>
          <a:xfrm>
            <a:off x="228600" y="0"/>
            <a:ext cx="6629400" cy="861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attery Polarity</a:t>
            </a:r>
            <a:br>
              <a:rPr sz="1600"/>
            </a:br>
            <a:r>
              <a:rPr b="0" lang="en-US" sz="1600" spc="-1" strike="noStrike">
                <a:solidFill>
                  <a:srgbClr val="000000"/>
                </a:solidFill>
                <a:latin typeface="Calibri"/>
              </a:rPr>
              <a:t>Batteries have 2 poles; positive and negative. Positive is called carbon anode. Negative is called zinc cathode. This is only for dry celled batteries though. Wet cells were bottles with liquid inside that had to be handled well to avoid spillage.</a:t>
            </a:r>
            <a:br>
              <a:rPr sz="1600"/>
            </a:br>
            <a:r>
              <a:rPr b="1" lang="en-US" sz="1600" spc="-1" strike="noStrike">
                <a:solidFill>
                  <a:srgbClr val="000000"/>
                </a:solidFill>
                <a:latin typeface="Calibri"/>
              </a:rPr>
              <a:t>Earth's Magnetic Field In a Nutshell:</a:t>
            </a:r>
            <a:br>
              <a:rPr sz="1600"/>
            </a:br>
            <a:r>
              <a:rPr b="0" lang="en-US" sz="1600" spc="-1" strike="noStrike">
                <a:solidFill>
                  <a:srgbClr val="000000"/>
                </a:solidFill>
                <a:latin typeface="Calibri"/>
              </a:rPr>
              <a:t>The field is caused by swirling iron in the outer core. This causes a magnetic field with a north and south pole, just like a magnet only without one. The North and South poles are 2 things: geographic points where the imaginary axis goes through. The 2nd one is the magnetic pole. These poles are close, but not the geographic ones. That means compasses are always pointing to the magnetic poles, not the geographic, which could be quite a problem near either pole. Either way the field attracts a compass toward the north or south pole; depending on which hemisphere you are in. Then you can tell which direction the magnet's is pointing.</a:t>
            </a:r>
            <a:br>
              <a:rPr sz="1600"/>
            </a:br>
            <a:r>
              <a:rPr b="1" lang="en-US" sz="1600" spc="-1" strike="noStrike">
                <a:solidFill>
                  <a:srgbClr val="000000"/>
                </a:solidFill>
                <a:latin typeface="Calibri"/>
              </a:rPr>
              <a:t>Circuit Theory:</a:t>
            </a:r>
            <a:br>
              <a:rPr sz="1600"/>
            </a:br>
            <a:r>
              <a:rPr b="0" lang="en-US" sz="1600" spc="-1" strike="noStrike">
                <a:solidFill>
                  <a:srgbClr val="000000"/>
                </a:solidFill>
                <a:latin typeface="Calibri"/>
              </a:rPr>
              <a:t>The theory of work being able to be accomplished by routing matters through a loop.</a:t>
            </a:r>
            <a:br>
              <a:rPr sz="1600"/>
            </a:br>
            <a:r>
              <a:rPr b="0" lang="en-US" sz="1600" spc="-1" strike="noStrike">
                <a:solidFill>
                  <a:srgbClr val="000000"/>
                </a:solidFill>
                <a:latin typeface="Calibri"/>
              </a:rPr>
              <a:t>The three types of matter used:</a:t>
            </a:r>
            <a:br>
              <a:rPr sz="1600"/>
            </a:br>
            <a:r>
              <a:rPr b="0" lang="en-US" sz="1600" spc="-1" strike="noStrike">
                <a:solidFill>
                  <a:srgbClr val="000000"/>
                </a:solidFill>
                <a:latin typeface="Calibri"/>
              </a:rPr>
              <a:t>electronic or electrical circuits(electrons and charged ion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neumatic circuits: compressed gas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ydraulic circuits: pressured liquids </a:t>
            </a:r>
            <a:br>
              <a:rPr sz="1600"/>
            </a:br>
            <a:r>
              <a:rPr b="1" lang="en-US" sz="1600" spc="-1" strike="noStrike">
                <a:solidFill>
                  <a:srgbClr val="000000"/>
                </a:solidFill>
                <a:latin typeface="Calibri"/>
              </a:rPr>
              <a:t>Ohm's Law:</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current)=V(Voltage)/R(Resistance)</a:t>
            </a:r>
            <a:br>
              <a:rPr sz="1600"/>
            </a:br>
            <a:r>
              <a:rPr b="0" lang="en-US" sz="1600" spc="-1" strike="noStrike">
                <a:solidFill>
                  <a:srgbClr val="000000"/>
                </a:solidFill>
                <a:latin typeface="Calibri"/>
              </a:rPr>
              <a:t>boldsymbol{J} = sigma boldsymbol{E},Where J is the density at any moment of any resistant material, E is the electric field at that location, and </a:t>
            </a:r>
            <a:r>
              <a:rPr b="0" i="1" lang="en-US" sz="1600" spc="-1" strike="noStrike">
                <a:solidFill>
                  <a:srgbClr val="000000"/>
                </a:solidFill>
                <a:latin typeface="Calibri"/>
              </a:rPr>
              <a:t>σ</a:t>
            </a:r>
            <a:r>
              <a:rPr b="0" lang="en-US" sz="1600" spc="-1" strike="noStrike">
                <a:solidFill>
                  <a:srgbClr val="000000"/>
                </a:solidFill>
                <a:latin typeface="Calibri"/>
              </a:rPr>
              <a:t> is a material dependent parameter called the conductivit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pe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ampere, usually known as an amp, is an SI base unit. It is named after André-Marie Ampère, one of the main discoverers of electromagnetism. It is a measure of the amount of electric charge that passed under a point in a certain amount of time. Around 6.242 × 10^18 electrons passing a given point each second constitutes one ampere.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3T20:51:41Z</dcterms:created>
  <dc:creator>install</dc:creator>
  <dc:description/>
  <dc:language>en-US</dc:language>
  <cp:lastModifiedBy>install</cp:lastModifiedBy>
  <dcterms:modified xsi:type="dcterms:W3CDTF">2010-01-13T20:56:06Z</dcterms:modified>
  <cp:revision>1</cp:revision>
  <dc:subject/>
  <dc:title>Slide 1</dc:title>
</cp:coreProperties>
</file>